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3F4-8B7C-4F28-BD4D-F0A7481C3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FF90-9245-40BD-8361-78AECFE0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E8CA-1FBE-4F3B-B7CB-B712FB95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0D34-0B1C-4E2E-B29A-CDDF6682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2BF-8B6F-4DDB-ABB0-1671D716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815A-F16D-491A-AEBB-490DF52F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AA2-29AD-4254-98F1-BC03FDE6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874-438F-418B-B5C1-212D68AE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BBA-99C7-4C6E-A9B4-0156B3FB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81B-B6A2-458E-B84E-41703D02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737C-4232-46AE-B06B-A0F355DC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0E6-1BBD-49E5-AE11-F08D250E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A38E-E667-4C33-AFAA-704669BA671A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2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71600" y="1676520"/>
                <a:ext cx="7010280" cy="44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Check for non-normalit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φ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z</m:t>
                                </m:r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where 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z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is the pdf of 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or  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 p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 percentile of N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If 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θ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then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</m:e>
                        </m:d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m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t xml:space="preserve">=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θ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figure2a.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609480"/>
            <a:ext cx="914400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figure2a.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figure2a.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figure2a.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5228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9480" y="5410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figure2a.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57200"/>
            <a:ext cx="9144000" cy="4940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4920" y="5638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figure2.6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able2.5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figure2.7" descr=""/>
          <p:cNvPicPr/>
          <p:nvPr/>
        </p:nvPicPr>
        <p:blipFill>
          <a:blip r:embed="rId1"/>
          <a:stretch/>
        </p:blipFill>
        <p:spPr>
          <a:xfrm>
            <a:off x="2133720" y="0"/>
            <a:ext cx="437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igure2.8" descr=""/>
          <p:cNvPicPr/>
          <p:nvPr/>
        </p:nvPicPr>
        <p:blipFill>
          <a:blip r:embed="rId1"/>
          <a:stretch/>
        </p:blipFill>
        <p:spPr>
          <a:xfrm>
            <a:off x="2286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figure2.9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066680" y="1600200"/>
                <a:ext cx="7363080" cy="385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eed normal probability paper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    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</m:e>
                            </m:d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gainst   </m:t>
                        </m:r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norma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core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plot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-2A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can be replaced by </m:t>
                        </m:r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75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hapes for normal plo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143000" y="4419720"/>
                <a:ext cx="784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63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.2a.1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a.2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2a.3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2a.4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a.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ormal Plot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523880" y="3325680"/>
                <a:ext cx="335448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523880" y="1600200"/>
                <a:ext cx="4087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 normal score of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  <m:r>
                          <m:rPr>
                            <m:lit/>
                            <m:nor/>
                          </m:rPr>
                          <m:t xml:space="preserve"> against 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/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ig2a.5 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TW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fig2a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206360" y="1955880"/>
                <a:ext cx="7340760" cy="38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General checking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    plot  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against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  <m:r>
                      <m:rPr>
                        <m:lit/>
                        <m:nor/>
                      </m:rPr>
                      <m:t xml:space="preserve">                 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, 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        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sidual 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is correlated to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   The LSE fit of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</m:t>
                    </m:r>
                    <m:r>
                      <m:rPr>
                        <m:lit/>
                        <m:nor/>
                      </m:rPr>
                      <m:t xml:space="preserve">             a slope of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against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produces a series of lines with slope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       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References in section 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 is helpful for formal tests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1206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59436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Fig2.6        table2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sidual Plots-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776240" y="2057400"/>
                <a:ext cx="3456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xample 1 : Steam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ample 1 : Lack of fit dat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, Fi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267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2.7    2.8     2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104920" y="1676520"/>
                <a:ext cx="5362560" cy="46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ction of 1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order autocorrel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-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where 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  <m:r>
                          <m:rPr>
                            <m:lit/>
                            <m:nor/>
                          </m:rPr>
                          <m:t xml:space="preserve">iid</m:t>
                        </m:r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u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and   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</m:sup>
                        </m:s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438280" y="33796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676520" y="1523880"/>
                <a:ext cx="6248160" cy="477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Durbin-Watso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-W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test is designed to tes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D-W statistic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is symmetric about 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d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≈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 if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r 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d</m:t>
                            </m:r>
                            <m:r>
                              <m:t xml:space="preserve">≈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23880" y="4979880"/>
                <a:ext cx="784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ote 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urbin-Watson 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28800" y="1676520"/>
                <a:ext cx="6197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Conclude  </m:t>
                        </m:r>
                        <m:r>
                          <m:t xml:space="preserve">ρ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: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r>
                          <m:t xml:space="preserve">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or 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-d</m:t>
                        </m:r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clare test inconclusive  if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d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able 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5</m:t>
                        </m:r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6172200" y="630864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中大統計所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</a:rPr>
              <a:t>2003/09/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figure2a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1066680"/>
            <a:ext cx="9144000" cy="42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09-30T01:04:34Z</dcterms:modified>
  <cp:revision>8</cp:revision>
  <dc:subject/>
  <dc:title>PowerPoint 簡報</dc:title>
</cp:coreProperties>
</file>